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24E0-4554-4EA8-B00C-692F27057F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3298-8DF9-4648-B1AC-186B5CEE9F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30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E3D0-CC52-41E9-BEB2-52C37A4E84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8400-6246-4C9C-9DD3-EF379D7429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1B0-B176-48EE-B11D-CB308E5D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AA9-8E70-43C7-97AE-2E448041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9C1-6F48-4422-878C-A944C361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E45-A5FE-4624-B843-EB481C01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A99B-927A-4CD0-BD4E-9078BCCA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ACAA-6BD9-4C57-A713-FE7A9E8B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2234-CC6B-4011-AB88-58D6354E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6B5B-3DE3-4438-A2DD-314056FC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F896-2CE0-4816-8B59-5A89518F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EA3E-EFCB-495D-8D7D-FA6949E6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0CE5-C93E-4382-88A9-777C1899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189-FBF9-4378-B25D-EABBFE8C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A7DC-D4FA-44AD-924C-09874D2A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805A-7A1F-449D-8E12-42997C3F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B2A4-2AD0-40F2-BEC6-90C1F22E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E810-D152-4AB9-B807-617213CF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ECC5-E8BE-4327-8549-2D77D3C2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36054-6777-4273-9FA8-00AABD86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51783-9A4F-4C76-A633-438C5AED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38303-545D-4268-9A12-1A65BBC2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EEDE8-C5B2-4FBC-A699-806C217E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40923-FAE2-4D1F-A69D-418A237C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918-B729-4824-95D4-522FF892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51820-3CB0-4AD3-9D97-38C51555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A8E92-BAF8-4362-B8F5-F4A9CDC4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D6DC6-57B0-49C3-94EB-F0FA9249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80866-3347-4B6B-9F13-456D1CCF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C4BA8-75ED-4DBB-87FC-561BFEFB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FFEB4-1AED-4101-9530-E7BC53E6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5F387-73F7-4478-881D-C6BB305B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B483A-226D-4533-8C15-28C4D963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E66E9-FEE6-430D-A438-CC81A99F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3FFE8-7F0E-4F11-8872-81424350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C907-D484-47C5-B581-0EDA44DF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10F7D-1AB9-4B35-BDDB-9E36BD26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A4407-8973-492A-B949-766957CD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5FEF1-8C22-452F-A940-904F7D94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E3E69-788C-4BCE-8DBE-28A31572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F1D37-55AE-4F93-8515-9B0A31CF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5A5CE-6C3A-41E8-B21D-AB7EDD58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45F16-8CD1-4CCD-A768-726DEE54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5B176-5499-44F0-A423-800DF40C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6659F-5738-4CFD-A6AC-E691F562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F558E-FEED-4B63-8E09-C3E3EEC3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E0AE-E117-4059-8E96-50D0ECA3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53C1D-9843-4DD4-BD5B-A94868ED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7A6E0-9D1F-4A28-B39B-609B8FC6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4341D-4AE3-44A7-8F84-BE7AFB5D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552FC-5653-433D-A669-DCD1202D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F7A75-3130-46B7-BE3E-FE198A60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0A578-04B0-4854-BF66-94E50D5F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4B60D-811A-4C91-B9EA-36046564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5E467-2141-4384-B18C-50B3F4A8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EE722-29BD-415A-BC5D-664A29AF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C4BE7-617D-4E87-83C9-F19D924B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801-1BBC-420B-AA87-C1F97319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AF133-FBAC-4EBA-A2AA-2324B3BE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28A88-617E-4FB2-868A-279D0A8D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3C76F-DCE3-43B0-A6C4-0E969491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864CD-FCE5-4FD7-9572-E286C118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F9875-0664-4EAD-8823-A1B36EBC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BD17E-7C8F-4738-81E6-83B76D6F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99114-3F09-4A31-B437-2FEB514F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4AA70-C458-4B2E-B75F-A15CA11F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1E21A-30C3-4156-825D-F904565A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73F73-7293-4733-901F-38DB2216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06D-0713-4F1E-973B-1DB78CCB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CB5E8-816D-483B-A269-56DE56FC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DCE55-067F-4B05-90FF-EF4B4A95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A71A4-3942-47D2-AA53-0AEB32F4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AA4-4A43-48DF-B81C-71E1C3EC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5DAB-A9E9-4D58-9CD2-1F6E3A91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6BAA-003B-4A31-A698-84274057E02D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FF2C-0EEE-4528-9C17-C1813ED60F3C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219E-CAA5-4DD2-B4F6-179F02427E9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ACA5-C8E7-4B90-A959-EE8AF87B671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7715-FAEC-4570-B560-D6A35FE771C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C466-907B-421D-B12B-75F9AA1EF4B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SFC2014 EAFRD Annual Implementation report (AIR) Technical Guidance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0" name="Subtitle 6"/>
          <p:cNvSpPr/>
          <p:nvPr/>
        </p:nvSpPr>
        <p:spPr>
          <a:xfrm>
            <a:off x="1187280" y="4149720"/>
            <a:ext cx="7763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Didier Bonaert (DG AGRI Unit H.2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Christophe Derzelle (DG AGRI Unit H.3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RDC, 17 February 2016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6CA1-33D4-4712-AACA-873DF021EC8A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6000" y="1123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AIR -  Draft Document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Q&amp;As on SFC2014 AIR technical guidanc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pdate of the SFC2014 AIR technical guidance (following Q&amp;As)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Draft technical structure of the Annual Implementation Report (AIR) for information </a:t>
            </a: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encoding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It does not correspond to final AIR Report Snapshot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FC2014 AIR technical guidance for NRN Programm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Monitoring indicator tables (Encoding tables): Excel tables presented in September 2015 RDC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11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Bi-Annual Indicator Data Provision (BAIDP)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Article 66 1(b) of Regulation 1305/2013 (committed expenditure/Table A): submission by 31 January 2016: remaining missing submissions for </a:t>
            </a:r>
            <a:r>
              <a:rPr b="0" lang="en-US" sz="1800" spc="-1" strike="noStrike" u="sng">
                <a:solidFill>
                  <a:srgbClr val="0f5494"/>
                </a:solidFill>
                <a:uFillTx/>
                <a:latin typeface="Verdana"/>
              </a:rPr>
              <a:t>20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RDP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- If first Submission of BAIDP (January 2016), it should cover expenditure committed from beginning 2014 until 31 December 201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- If </a:t>
            </a:r>
            <a:r>
              <a:rPr b="0" lang="en-US" sz="1800" spc="-1" strike="noStrike" u="sng">
                <a:solidFill>
                  <a:srgbClr val="0f5494"/>
                </a:solidFill>
                <a:uFillTx/>
                <a:latin typeface="Verdana"/>
              </a:rPr>
              <a:t>no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first Submission of BAIDP (January 2016), it should cover expenditure committed from 1</a:t>
            </a:r>
            <a:r>
              <a:rPr b="0" lang="en-US" sz="18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September 2015 until 31 December 201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C8E6-8D28-4A04-BE33-26A119F260D7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Bi-Annual Indicator Data Provision (BAIDP)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F7AE-DFC4-4C67-A3D9-E1CC70F15539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rcRect l="-1803" t="-3304" r="58333" b="59799"/>
          <a:stretch/>
        </p:blipFill>
        <p:spPr>
          <a:xfrm>
            <a:off x="-150840" y="1197000"/>
            <a:ext cx="8874000" cy="48466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"/>
          <p:cNvSpPr/>
          <p:nvPr/>
        </p:nvSpPr>
        <p:spPr>
          <a:xfrm>
            <a:off x="2195640" y="5300640"/>
            <a:ext cx="28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2185920" y="5076720"/>
            <a:ext cx="296244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324000" y="24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0" y="809640"/>
          <a:ext cx="9144000" cy="57261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AIR: Financial Part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Legal Basis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3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50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5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75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87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1 - From 2016 […] </a:t>
                      </a:r>
                      <a:r>
                        <a:rPr b="0" lang="fr-BE" sz="1400" spc="-1" strike="noStrike" u="sng">
                          <a:solidFill>
                            <a:srgbClr val="0f5494"/>
                          </a:solidFill>
                          <a:uFillTx/>
                          <a:latin typeface="Verdana"/>
                        </a:rPr>
                        <a:t>Member States</a:t>
                      </a: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shall submit to the Commission an Annual Report on implementation of the programme …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1 - By 30 June 2016 and each subsequent year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report submitted in 2016 shall cover the calendar years 2014 and 2015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2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2 - AIR shall set out key information of the programme and its priorities by reference to the financial data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2 – […] AIR shall include information inter alia on financial commitments and expenditure by measure[…]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6 – In order to be deemed admissible, the AIR reports […] shall contain all the information required [in paragraph 1 to 5 of Art 50] and in fund specific rules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6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36(3)(c)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1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Each interim payment shall be made by the Commission subject to compliance with the following requirements :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[…]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ransmission to the Commission of the last annual progress report on the implementation of the RDP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7800" y="1052280"/>
            <a:ext cx="858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CE8F-7B96-4C3B-8AFB-D5A1F84F9351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9240" y="1628640"/>
            <a:ext cx="858204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566640" y="1844640"/>
          <a:ext cx="8325000" cy="3157560"/>
        </p:xfrm>
        <a:graphic>
          <a:graphicData uri="http://schemas.openxmlformats.org/drawingml/2006/table">
            <a:tbl>
              <a:tblPr/>
              <a:tblGrid>
                <a:gridCol w="8325000"/>
              </a:tblGrid>
              <a:tr h="615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Legal Basis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8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808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4 art 15 – Annex VII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04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inancial implementation data giving, during the previous calendar year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or each measure and focus area,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 statement of the expenditure incurred and declared in the declarations of expenditure.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t shall cover :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total incurred public expenditure as well as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financial recoveries and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corrections brought by the Member States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7800" y="1052280"/>
            <a:ext cx="858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5CC0-BD6C-4017-9C55-020B9163357A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9240" y="1628640"/>
            <a:ext cx="858204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307800" y="1844640"/>
          <a:ext cx="8583840" cy="3389400"/>
        </p:xfrm>
        <a:graphic>
          <a:graphicData uri="http://schemas.openxmlformats.org/drawingml/2006/table">
            <a:tbl>
              <a:tblPr/>
              <a:tblGrid>
                <a:gridCol w="8583840"/>
              </a:tblGrid>
              <a:tr h="523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ew, Improved, Simplified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659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ll data are in the system and reports can be easily generated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additional or new requirements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Report takes into account the corrections to expenditure declared in quarterly declarations made in annual accounts (Diff-X table).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IR  is a report from MS to the Commission 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MS are responsible of the correctness of the data.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420920" y="3068640"/>
          <a:ext cx="6148440" cy="1512720"/>
        </p:xfrm>
        <a:graphic>
          <a:graphicData uri="http://schemas.openxmlformats.org/drawingml/2006/table">
            <a:tbl>
              <a:tblPr/>
              <a:tblGrid>
                <a:gridCol w="1046160"/>
                <a:gridCol w="1625400"/>
                <a:gridCol w="1776600"/>
                <a:gridCol w="1700280"/>
              </a:tblGrid>
              <a:tr h="84132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cus Area /                Priority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incurred and declared during the calendar yea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adjustments made by the Member States during the calendar yea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fference between the annual declaration and the cumulative quarterly declaration (Diff X table)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976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b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c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56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2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2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32DC-3868-4F20-88D3-B0C03D677C68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85920" y="22543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1 - Information on implementation of the programme and its priorities by reference to the financial data [ For each measure]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08000" y="2924280"/>
          <a:ext cx="8578800" cy="2484360"/>
        </p:xfrm>
        <a:graphic>
          <a:graphicData uri="http://schemas.openxmlformats.org/drawingml/2006/table">
            <a:tbl>
              <a:tblPr/>
              <a:tblGrid>
                <a:gridCol w="792000"/>
                <a:gridCol w="1214640"/>
                <a:gridCol w="1047600"/>
                <a:gridCol w="1193760"/>
                <a:gridCol w="1152720"/>
                <a:gridCol w="987480"/>
                <a:gridCol w="1095120"/>
                <a:gridCol w="1095480"/>
              </a:tblGrid>
              <a:tr h="163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 / Type of Regio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public expenditures incurred and paid by the paying agency (quarterly declarations of the calendar year)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sulting of the application of the co-financing rate pertaining to the measure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financial adjustments (Irregularities or negligence's recovered by MS during the calendar year 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other adjustments made by the Paying Agency during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e) = (b) + (c) +(d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of adjustments made in the annual declaration (total of Diff X tables) available as at [date of report] pertaining to the calendar year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mount reimbursed (paid) to MS as at [date of report]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68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 of which MS Financial Instrumen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C826-BF85-40CC-96E9-BF74C956DF1A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385920" y="22543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2 - Financial implementation – Calendar year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08000" y="2924280"/>
          <a:ext cx="8578800" cy="2449440"/>
        </p:xfrm>
        <a:graphic>
          <a:graphicData uri="http://schemas.openxmlformats.org/drawingml/2006/table">
            <a:tbl>
              <a:tblPr/>
              <a:tblGrid>
                <a:gridCol w="792000"/>
                <a:gridCol w="1214640"/>
                <a:gridCol w="1047600"/>
                <a:gridCol w="1193760"/>
                <a:gridCol w="1152720"/>
                <a:gridCol w="987480"/>
                <a:gridCol w="1095120"/>
                <a:gridCol w="1095480"/>
              </a:tblGrid>
              <a:tr h="163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 / Type of Regio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public expenditures incurred and paid by the paying agency (quarterly declarations of the calendar year)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sulting of the application of the co-financing rate pertaining to the measure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financial adjustments (Irregularities or negligence's recovered by MS during the calendar year 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other adjustments made by the Paying Agency during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e') = (b') + (c') +(d'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of adjustments made in the annual declaration (total of Diff X tables) available as at [date of report] pertaining to the calendar year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'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mount reimbursed (paid) to MS as at [date of report]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968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 of which MS Financial Instrumen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772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0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CAB8-D3BC-4FCC-B5C9-4B83D17F16E1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85920" y="22543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3 Financial implementation - aggregated table from the beginning of the programming period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6360" y="2852640"/>
          <a:ext cx="7596000" cy="1656000"/>
        </p:xfrm>
        <a:graphic>
          <a:graphicData uri="http://schemas.openxmlformats.org/drawingml/2006/table">
            <a:tbl>
              <a:tblPr/>
              <a:tblGrid>
                <a:gridCol w="1114200"/>
                <a:gridCol w="1575000"/>
                <a:gridCol w="1549440"/>
                <a:gridCol w="1736640"/>
                <a:gridCol w="1620720"/>
              </a:tblGrid>
              <a:tr h="90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Financing plan in force  on 31 Dec of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'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EAFRD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'') = (e') + (f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Requested / Financing plan. (%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'') = (b'') / (a'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vailable to declare for the remaining period as at 31 Dec of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'') = (a") - (b"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7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352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2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18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…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F672-068C-4049-B45F-17BBF721D19E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385920" y="22543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4 State of play at the end of the calendar year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AIR – SFC2014 developmen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826920" y="2421000"/>
          <a:ext cx="7490160" cy="2533680"/>
        </p:xfrm>
        <a:graphic>
          <a:graphicData uri="http://schemas.openxmlformats.org/drawingml/2006/table">
            <a:tbl>
              <a:tblPr/>
              <a:tblGrid>
                <a:gridCol w="1648080"/>
                <a:gridCol w="1871640"/>
                <a:gridCol w="1881000"/>
                <a:gridCol w="208944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 Encoding module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pdf report Snapshot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87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/03/2016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(partial) 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1" lang="en-US" sz="4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29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y 2016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ION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PAYNE Victoria (AGRI)</cp:lastModifiedBy>
  <cp:lastPrinted>2016-02-15T14:37:02Z</cp:lastPrinted>
  <dcterms:modified xsi:type="dcterms:W3CDTF">2016-02-16T15:37:28Z</dcterms:modified>
  <cp:revision>460</cp:revision>
  <dc:subject/>
  <dc:title>Slide 1</dc:title>
</cp:coreProperties>
</file>